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741-0E52-4A6B-AA2F-CF3F9314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850284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" y="3785760"/>
            <a:ext cx="850284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FC6-DDAD-415D-8894-73EA0C34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020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728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4FE-5E75-42E8-BA0E-C132FD08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5160" y="15159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0480" y="15159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" y="37857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5160" y="37857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0480" y="3785760"/>
            <a:ext cx="273780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8BF-F62E-443F-8DF7-FDC0BDEE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0200" y="1515960"/>
            <a:ext cx="85028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0B2-1456-4907-9045-A0E3EBE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85028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AFA-FE8A-4B7C-A966-CE918B8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32C-8C61-4352-AF76-9BD9D779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095-C829-46DA-94B5-E5921F1A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0200" y="461880"/>
            <a:ext cx="85028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D79-5937-42F1-B4EA-DA08FF6A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020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C72-AE61-4AB4-B5C0-973CA9D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7280" y="37857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7F2-15A1-4070-9FA8-4B0ECD9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7280" y="1515960"/>
            <a:ext cx="414936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" y="3785760"/>
            <a:ext cx="8502840" cy="2072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E6-AF74-4E59-9E1B-A3D6AC1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0200" y="461880"/>
            <a:ext cx="8502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0200" y="1515960"/>
            <a:ext cx="85028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0560" y="5996160"/>
            <a:ext cx="225432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5996160"/>
            <a:ext cx="3067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78600" y="5996160"/>
            <a:ext cx="225432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7903F81F-58A5-467F-A7E3-ECE42D711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pg.org/classe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0428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Knight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971800"/>
            <a:ext cx="85042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: Chloe Hamlin, Sam Webster, and Riley Sen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97440" y="3195720"/>
            <a:ext cx="14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360" y="456840"/>
            <a:ext cx="8504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DESCRIPTION OF A KNIGHT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0200" y="1515960"/>
            <a:ext cx="41497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He wore a fustian tunic stained and dark/ With smudges where his armor had left a mark (lines 77-780);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22960" y="1600200"/>
            <a:ext cx="313524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04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CHARATERISTICS OF A KNIGH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1825560"/>
            <a:ext cx="41497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, honor, generous, courtesy, and nobility. He has just returned home from service and he joined their ranks to do his pilgrimage. Chaucer describes him as "a true, a perfect-gentle knight (line 74)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200" y="461520"/>
            <a:ext cx="8504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AT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15960"/>
            <a:ext cx="375588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knight was a part of the Nobility/Second estate. These people are "exempt from taxes on the theory that they serve the state by offering the king their lives in military servi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1780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0200" y="461520"/>
            <a:ext cx="8504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3440" y="1832040"/>
            <a:ext cx="81169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lepg.org/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Boo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37:03Z</dcterms:created>
  <dc:creator>PCSC</dc:creator>
  <dc:description>General introduction of a new product taking customer wishes into account</dc:description>
  <dc:language>en-US</dc:language>
  <cp:lastModifiedBy/>
  <cp:revision>1</cp:revision>
  <dc:subject/>
  <dc:title>Introducing a New Product</dc:title>
</cp:coreProperties>
</file>